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90CE653-A1A6-458C-8957-320B006ED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4332EE4-D6BB-4F3E-B59E-CC32340C24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Effective Aug 2008 – will cut 8 workers or 67% of its staff and has suspended validation testing on V2 of its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ing Skin Cancer – 104,950 cases of Colon Cancer and 40,340 cases of rectal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rate has decreased recently due to early det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survival rate is caught early – only 39% are detected ea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D8777F7-6354-498A-A207-D94CD062B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exSig – Gastroenterologists 44% - Primary Care remaine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19BD321-838D-4E92-A228-F2070A01E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scopy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0 if performed outside of hos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10 if performed in hos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would require 32,000 more gastroenterologists.  83% Colonscopies performed by gastroenterolog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E730E66-11FD-4FEA-9B9C-2EE9EFA0C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2.5% of health care 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p Fill – no mechanism to raise prices if needed.  Lowered when NLA computed – Led to large debate over HIV test as the cost set was lower then the cost to perform the test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5C4-76F9-4834-87C5-CDFD5C71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E64-4591-4AA4-A45F-FF6938ED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885-3E78-4747-9C99-0C928075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F0C-926B-4EF0-A20B-8B56F20E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D704-BF8C-42C2-A889-7E5DD3A4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7A4F-A9D1-46D6-8B49-DA4F446F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30F2-E2D1-4A28-B089-E66D06AD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347F-D857-4D09-AE19-1640F3B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34DB-568C-41E8-A78D-DAF5FD01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44F-0993-402E-8F1C-D54A499D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009E-9100-4D50-9239-1189DCD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D05-0191-4312-A963-6914689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414A-E161-4C75-B054-EEB1985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A8EE-30C6-4E98-A7D5-C32D819D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55A5-BB73-4310-8838-4A486FA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57BA-5B2C-4F31-9472-E634C85D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4BC5-5313-4EF1-8FEC-782E717C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282CF-C8A6-4D9B-A853-DD2B1F28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83BA9-41C0-42AC-838C-7AA9B3BF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0F527-11EA-4FFD-92C8-13F493A2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B1159-77D7-4B06-997D-C6DD2207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A0B77-37C1-43C6-BCA1-40EA1DA8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264-4C30-48F9-81B4-666D9EB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5391E-161F-4D83-8DD5-A9CAC5E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1FDBA-C31E-48F8-9E05-9ECF7284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8A6FE-5711-469F-81F9-693B8E8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F41EF-D562-42D0-8D2F-F2BD1B9A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CAFA7-D20E-4C23-B896-FF35027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04C38-3C0E-4727-A3A9-6722EE52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C0BB5-8AA6-435F-A971-06357289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C9986-2DF0-41EC-BAAE-48A7AE14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4C7DB-4286-4038-82D2-47249B35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A7776-0003-443D-A644-8844DDCA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0F3-79F8-4209-BC47-F19A2C82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E1F77-3515-46AF-B3C4-F72E79E7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3730A-7872-4206-B092-1BA2BE0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EC820-1FE8-4C5B-ADAB-0211684D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CBB95-0FBE-4F92-A0AD-1F492F0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A02B6-76FE-4956-B995-6C582D9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15F75-EAEA-4F72-9A33-3835EAD7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FABAB-9D4A-4139-B691-F4E8DA6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A5371-699F-41EA-9B3F-23D77C3F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EB013-9D4C-44F6-8B69-4893F4CC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8081D-750F-45B8-863A-787261E8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A5F-FFDE-4D04-B1FF-1A45B8F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C9A48-1362-474B-9670-B2DDB4E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54EBC-1542-43B4-AE5E-B9BD7514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A17D1-E7A7-4B21-A839-BB783C7E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07958-9661-47F7-9476-A732352D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92B83-DA4A-4D83-8921-AD6967F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4D742-156A-4DC4-A8B3-6C32146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82FBB-0920-4354-9C6D-C389E596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B3D5A-2802-414E-9156-66BE8D96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321D8-447C-4A21-A5EE-36A35258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5B204-266B-4F82-9027-83CEB389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2AD-8135-418F-B618-FCACE8E3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C2590-2E62-4BAB-A7ED-6FC522F7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BC260-5674-42EF-8BEB-5771B443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477B-FFE4-4A0E-A902-5B4C629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813C-6010-4D13-BBE7-AED3E3E8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5A9AE-7D57-4B9C-812D-215DFE86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B6CB-6004-4ECD-8743-B590FC31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F9C5-1627-4E26-B307-9CD11F5A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C4DA-51E8-41B0-83F6-EE94E9C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0EE8-601D-40FA-827F-0D15F73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1B84-4567-405E-986B-F9C232AC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967-10C6-4EB1-8C2B-F3CFD59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8FCEE-A6E1-472D-A091-0C029207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7733-644E-45D6-8995-710E09EA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894E9-ADEE-4D1D-BC55-51B7E008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4D891-E71A-40A2-A877-BF3CF1B5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66330-E7D6-4AAE-A35F-81AA747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5E73F-8A3A-4304-A3D8-7043B14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39ADF-2656-4776-AF37-69350043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EAA6D-A8BA-493D-80EF-8E2874F5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E5CAD-8F83-42B6-9824-8EDECA40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574A41-787E-4E29-A24E-7F409914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589-35A4-404D-A803-1F89D8D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DC848-9303-4DBF-9D53-D2957D5A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88D0B-4090-4B93-BF4A-769B64C9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000AB-BCAF-4FD3-975B-7CD920D0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68314-8EFD-463A-9EAA-78CBC09E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B1838-8390-4238-84EF-7AA64A71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1A563-80EA-49EA-BE48-547EC2FA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1CD37-675C-4C70-BD17-C9054887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85A35-7C24-4875-A45A-AE0B425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B225F-57BC-4282-8C55-BA77FC6A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602C4-6FB6-4115-A6E2-90FA8236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C07-5E42-43C1-BDD7-1AB26A4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C1320-18C2-4B19-9B3F-0B6A5B1B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F8F6-4F1D-48D9-AF03-A3D81C5E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78C61-5BCB-4DE1-858D-C7351EB0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FE83-BF54-4598-BD0A-3DD5DA4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BF06-987D-4F0D-B07F-F17F357A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D4ECF-E19E-44D0-9713-55F56C33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6A0F-7D15-4F7D-88E3-9D976285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DDA-541E-4969-90F4-49C0D7C4F7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9787-6AD5-4E10-9C25-0FBAB1FFBE7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194-4376-4432-BA27-8A5000894F2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DC7E-E5A5-4F7D-9348-E30641D24B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9C3A-292B-44B0-AA50-D65340F09E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1E4A-8F40-4AC6-A4C8-56F099E0D76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6CEF-D39C-4779-AE7A-B2FBE41C17BD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CBD8-8C89-406E-895A-E83531C28E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005d4d1.netsolhost.com/applied/applied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da.gov/foi/warning_letters/s6568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52120" y="4038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XACT SCIENCES CORP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atthew Beaugard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HPA 550 – Health Care Marketin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Develop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cluded in World Gastroenterology Organization colorectal cancer screening guidelin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w a new testing option rather then an emerging tren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 alternative to the standard FOBT followed by Colonoscop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rvey by Schroy &amp; Heeren of over 4,000 patients found that DNA based testing was the preferred method (50.6%) verse FOBT(32%) and Colonoscopy (15% 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531504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x Forces Mo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eti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w entrants  – The Govern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d Users/Buyer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plier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bstitute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243828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cident and Pro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orectal Cancer is  the third most diagnosed cancer in the United St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orectal cancer is the second leading cause of cancer-related death in the United St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6,290 died due to colorectal cancer in 2005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number of deaths has decreased over the past 15 year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arly detection increases 5 year survival rat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arly treatment cost much lower then late stage treatm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019920" y="4724280"/>
            <a:ext cx="2923920" cy="18669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Diagnostic Tests for Colon Canc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four tests for colon cancer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ecal Occult Blood (FOBT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$4-$20 – Per t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formed 20 million times last ye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blood in stools to be effec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lexible Sigmoidoscopy (FlexSig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$130-$300 per 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formed 2.8 million times last year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Diagnostic Tests for Colon Cancer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Four tests for colon cancer (Cont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lonoscop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ow for correction of problems by removal of polyps or lesions during ex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st varies depending on where perform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ot enough capacity to treat everyone using Colonoscopies/FlexSi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Final test is Exact Sciences DNA screening tes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CT Sciences DNA Te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514600" y="5105520"/>
            <a:ext cx="6553080" cy="16542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799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s based on DNA exfoliation in stools rather then blood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leeding can be intermittent or non-existen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NA exfoliation is always occurring and is representative of the entire col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sed on a direct measu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lood is indirect measure of colon canc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llows for four times greater sensitivity then FOBT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No need to fast prior to test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81480"/>
            <a:ext cx="1203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agnostic Testing Mark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boratory testing is a $37 billion indust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ospitals control 60% of the mark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dependent Labs control 32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wo Largest - Quest (12%) and Labcorp (8%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 three control 12% (Quintiles, Covance, and Ameripath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octors office perform the remaining 8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enue relatively flat until rec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oteric Testing has helped raise revenu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boratory Pay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iven by Medicare Laboratory fee Sched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ing decisions are made by Medicare internal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p Fill – Completely New tests – No clear methodolog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ross Walking – Used when similar to other tes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urance firms are slow to approve reimbursement genetic test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bCorp and EXACT Sci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8302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bCorp exclusive rights to Pre-Gen-Plus part of larger strategy t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row testing volu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velop innovative testing through exclusive righ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and molecular testing skill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yments totaling $75 mill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$15 million upfro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$15 million when first market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maindered of life of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bCorp will market primarily to the gastro-enterologists initia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gulatory Requirem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boratory tests that are developed and used in-house by labs are not regulated by the FD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FDA does regulate reagents used in testing, but does not require pre-market approv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</a:t>
            </a: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arning Lette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states the FDA vie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 developed by LabCor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agents supplied and specified by EXA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effort by FDA to pull test from mark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 warnings to LabCor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2:25:49Z</dcterms:created>
  <dc:creator>Preferred Customer</dc:creator>
  <dc:description/>
  <dc:language>en-US</dc:language>
  <cp:lastModifiedBy>beaugm</cp:lastModifiedBy>
  <dcterms:modified xsi:type="dcterms:W3CDTF">2008-07-21T19:37:52Z</dcterms:modified>
  <cp:revision>6</cp:revision>
  <dc:subject/>
  <dc:title>EXACT Sciences Corp</dc:title>
</cp:coreProperties>
</file>